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2B1A-05D4-4D56-A24B-8ABBBF0A29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0968-E10B-4C07-9023-C6F75728AE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D7F9-DE50-425F-8509-FC7CD657BE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FA0-75F5-4712-9550-34022F0A25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8BE0-A4B6-40C9-8F5E-6DF491374C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029B-86F9-46AE-AA83-86578557B0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8BF8-461B-4AF9-BAB0-AF3CF2DCD7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49D4-3CC0-43D8-A32A-C077E57787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5690-E307-48DC-B0CD-546D011CCB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B2DF-E275-4FBF-AE93-70F167F271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7C25-979C-4A59-B392-33F6559AFA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C414-3D8F-4A3F-B34F-8749267F9E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100E-7AEB-4C99-A7CA-B145D9F8E5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DD8-B6E0-4856-81D0-C1AC2BA1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936-739B-422E-8FED-68B2FD7A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380-5BCB-4281-AD87-5C26BCA0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94F-CD40-4A28-9080-36E54DD4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C623-8B10-4790-861A-7F3A5494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DCBA-D810-4C2A-B801-CC86EE70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CB96-44BB-44B0-A943-3BEE444E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F600-28DA-40E1-9576-9C9480CC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5F74-3D92-48C7-A636-0935CC74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C763-F00A-4A4A-82FA-427B26F5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2FB8-D9D9-4A94-BD12-75A50770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D37-8D9F-4F48-BCF4-E846EE49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4C3D-008C-487A-9146-E997139C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1F38-C9C4-475F-977C-08F86A9F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F5D1-5C87-4331-BC63-EFC6727A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C440-E03F-4B68-B481-DD11A46B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0E2E-5F4D-46FA-BB37-2A5ED28C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965C-7A21-4532-B628-4CCA029D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5B96-FBCD-44D4-8908-EEFC7A0F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5583-5F13-4977-9D2D-52C05B90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1DA8-3A6C-4BAF-B491-BB329C89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742F1-4A5B-4DE3-B90C-C6AB7E39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25B-5068-47E1-80C0-E3D502C0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276F3-F084-4C59-9B4E-D1150BE3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A8A5-BD00-4F52-AAFA-CA035826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C951-47F2-4300-8D92-76FFC8EF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B551-495D-475F-966B-A6429BC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83DC4-0976-4E16-9E4D-95806D8B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D14C4-4DCC-43DB-B9D7-ED26B661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DEBE-6C07-43F4-AC09-C787703B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0A89A-26FB-4589-BB36-3E106647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71A30-85D9-4E99-8FA2-8003FC61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F87B7-7C11-4C60-9BE3-7818E3A7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5D7-394B-4FF6-8801-47B51B11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F94A-99EA-4A29-AEA3-BEC217E9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3017D-5589-43C0-862B-0B4B75DB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08444-12AF-43BA-A833-DB0D6BC0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FED36-9F52-4AE1-9C70-85D2C271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FE41-DE03-475B-B3FC-900E1DF9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2E0FB-E9E1-41F2-AF9B-B4BD927A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3EA52-9F7C-4E20-AD62-0F875DD4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EFB39-C35D-4195-B8F5-7F2088D3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132C9-DFB1-4E06-A470-700EDDDB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682-C5FF-4189-8FBC-4800127E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2D5-DFF3-4C1E-8A35-A25C293B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8F4-4702-4FAA-AAF1-19A59A69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DD6-A3F8-4FDE-AF59-993BEA8B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257-12A5-4296-9A11-44AD2A31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4169-6337-4A2C-8534-9017C99B85D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885F-2C75-4A28-9103-207CF4BCCEA7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17BE-9FDC-43C2-8D1B-4C88D53311A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92F6-AA7F-4152-83CB-5149413A1308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C872-9585-4534-BDDD-BE31F337F74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8EA5-28F3-4345-A945-844E21AFD242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B842-A890-4E08-A613-A65C9F3ACEC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EB89-526B-4977-B7F1-27C8F6C128FC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5b59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утрен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Организацион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ммуникационные процесс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ганизационное построение предприятия или фирм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ормы, правила и процедуры производственного процесс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пределение прав и ответствен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ерархию подчи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988640"/>
            <a:ext cx="404028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ступают в качестве базы, на которую организация опирается в конкурентной борьбе и которую пытается расширить и укрепить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4720" y="1052280"/>
            <a:ext cx="4041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44720" y="1988640"/>
            <a:ext cx="40417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ы стать предметом внимания руководства, которое должно принять решение относительно устранения слабых сторон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SNW-</a:t>
            </a: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анали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ббревиатура трех английских слов (S - сильная позиция (сторона); N – нейтральная позиция; W – слабая позиция (сторон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качестве нейтральной позиции лучшего всего фиксировать среднерыночное состояние для данной конкретной ситуац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етко фиксируется ситуационное среднерыночное состояние, то есть своеобразная нулевая точка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езы анализа внутрен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ильные и слабые стороны организ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NW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a5b592"/>
                </a:solidFill>
                <a:latin typeface="Trebuchet MS"/>
              </a:rPr>
              <a:t>Внутренняя среда организации</a:t>
            </a:r>
            <a:endParaRPr b="0" lang="en-US" sz="40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 часть общей среды, которая находится в ее пределах. Она оказывает постоянное и самое непосредственное воздействие на функционирование организации. Под внутренней средой понимается хозяйственный организм фирмы, включающий управленческий механизм, направленный на оптимизацию научно-технической и производственно-сбытов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Внутрифирменная диагностика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сонал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ультура и имидж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екорпоративное управл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a5b592"/>
                </a:solidFill>
                <a:latin typeface="Trebuchet MS"/>
              </a:rPr>
              <a:t>Маркетинговый потенциал</a:t>
            </a: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42960" y="1500120"/>
          <a:ext cx="7858080" cy="5159520"/>
        </p:xfrm>
        <a:graphic>
          <a:graphicData uri="http://schemas.openxmlformats.org/drawingml/2006/table">
            <a:tbl>
              <a:tblPr/>
              <a:tblGrid>
                <a:gridCol w="3922560"/>
                <a:gridCol w="3935520"/>
              </a:tblGrid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60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ие и качество ассорт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характеристики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родук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ция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аковка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ая ма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о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йскурантная ц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д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нс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е це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о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выдачи кред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ый персонал Рекл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и с обществен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ы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ры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образие кан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 поддер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одажное обслужи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в торговых точка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продажное обслуж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 функций и обяза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a5b592"/>
                </a:solidFill>
                <a:latin typeface="Trebuchet MS"/>
              </a:rPr>
              <a:t>Производственный срез</a:t>
            </a:r>
            <a:endParaRPr b="0" lang="en-US" sz="44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е продукции, снабжения и ведения складского хозяйств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служивание технологического оборудова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уществление исследований и разработ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Финансов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ка ликвид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еспечение прибы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ание финансовой устойчив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е инвестиционных возможностей и тому подобно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Срез по персоналу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заимодействие менеджеров и рабочи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е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еба и продвижение кадр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у результатов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тивацию и стимулирование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я атмосферы и поддержки отношений в коллектив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387360" y="1220760"/>
          <a:ext cx="7958160" cy="5637240"/>
        </p:xfrm>
        <a:graphic>
          <a:graphicData uri="http://schemas.openxmlformats.org/drawingml/2006/table">
            <a:tbl>
              <a:tblPr/>
              <a:tblGrid>
                <a:gridCol w="3979800"/>
                <a:gridCol w="3978360"/>
              </a:tblGrid>
              <a:tr h="303120"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4120"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ильного лидера, который устанавливает принципы и нормы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ы посвящают значительное время объяснению этих принципов персоналу и постоянно подчеркивают важность исполь­зования этих принципов при принятии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соответствие между культурой и долгосрочными пла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превращает работу в образ жизни, воспиты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мотивируя сотруд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явшиеся ценности и нормы поведения не меняются при появлении нового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ки хорошо осведомлены об истории организации, с уважением относятся к традициям, ритуалам и организационным симво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уделяется внимание прежде всего разъяснению своей фирменной философии, пропаганде своих цен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людей как главного ресурса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рассматривается как средство суще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множество субкульт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общепризнанных ценностей и правил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традиции, ритуалы, организационные симв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деляется должного внимания формированию истории органи­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зированная обстановка на фирме, когда отдельные руководители проводят собственную политику и оказывают сопротивление необходимым измене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ждебное отношение ко всякого рода иннов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руководства, ориентирован­ный в большей степени на органи­зационную структуру, бюджет, систему контроля над персоналом в ущерб созданию корпоратив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выдел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tabLst>
                          <a:tab algn="l" pos="0"/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формальные колич­ственные аспекты деятельности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экономических и технических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Культур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7:43Z</dcterms:modified>
  <cp:revision>12</cp:revision>
  <dc:subject/>
  <dc:title>Theme 7</dc:title>
</cp:coreProperties>
</file>